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72F-DC3A-4F09-9583-DE42C4C1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4CA4-28D2-4CEA-9496-C5BB7174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A24-CD1F-4606-B609-7DD67C67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9F9-281A-40FA-B56F-CC2DB507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6E62-4918-4562-82D7-4AD64F2A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1AB-3F3F-4941-BE8F-723783AB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D070-C6E8-4AEC-823C-F0AE68F6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769-F50C-4279-86B0-3F4228B7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2599-4566-4B0C-A5C4-782D6368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9DA-0313-40A7-A1CC-20B7DEEA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03F-3C01-414E-A501-70C5ECE7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DB1A-00ED-452B-8250-E950D1AA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4382-F6A3-4D0B-9175-D88C126EB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kt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791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.R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C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kt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ktales are stories told by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Folktale you may remember is Jack and the Beansta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F:\school\folktales\jackbeanstalk.jpg"/>
          <p:cNvPicPr/>
          <p:nvPr/>
        </p:nvPicPr>
        <p:blipFill>
          <a:blip r:embed="rId1"/>
          <a:stretch/>
        </p:blipFill>
        <p:spPr>
          <a:xfrm>
            <a:off x="5029200" y="1523880"/>
            <a:ext cx="3657600" cy="4953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980720"/>
            <a:ext cx="320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ktales are stories that are told from generation to generation, like the story of the tooth fai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F:\school\folktales\toothfairy.jpg"/>
          <p:cNvPicPr/>
          <p:nvPr/>
        </p:nvPicPr>
        <p:blipFill>
          <a:blip r:embed="rId1"/>
          <a:stretch/>
        </p:blipFill>
        <p:spPr>
          <a:xfrm>
            <a:off x="4916520" y="1371600"/>
            <a:ext cx="375768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folktales are make belie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F:\school\folktales\rumpelstiltskin.jpg"/>
          <p:cNvPicPr/>
          <p:nvPr/>
        </p:nvPicPr>
        <p:blipFill>
          <a:blip r:embed="rId1"/>
          <a:stretch/>
        </p:blipFill>
        <p:spPr>
          <a:xfrm>
            <a:off x="304920" y="685800"/>
            <a:ext cx="43815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folktales are part make believe and part 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that the characters themselves were probably real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F:\school\folktales\reeve%20lindbergh%20johnny%.gif"/>
          <p:cNvPicPr/>
          <p:nvPr/>
        </p:nvPicPr>
        <p:blipFill>
          <a:blip r:embed="rId1"/>
          <a:stretch/>
        </p:blipFill>
        <p:spPr>
          <a:xfrm>
            <a:off x="228600" y="1219320"/>
            <a:ext cx="43434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447560" y="304560"/>
            <a:ext cx="739116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folktales teach a lesson like the story of the Tortoise and the H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, in some folktales, animals can ta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F:\school\folktales\haretortoise.jpg"/>
          <p:cNvPicPr/>
          <p:nvPr/>
        </p:nvPicPr>
        <p:blipFill>
          <a:blip r:embed="rId1"/>
          <a:stretch/>
        </p:blipFill>
        <p:spPr>
          <a:xfrm>
            <a:off x="3276720" y="1981080"/>
            <a:ext cx="5486400" cy="4489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99840" y="16002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folktales can be sc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F:\school\folktales\the%20legend%20of%20sleepy%.jpg"/>
          <p:cNvPicPr/>
          <p:nvPr/>
        </p:nvPicPr>
        <p:blipFill>
          <a:blip r:embed="rId1"/>
          <a:stretch/>
        </p:blipFill>
        <p:spPr>
          <a:xfrm>
            <a:off x="4975200" y="1981080"/>
            <a:ext cx="315432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281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folktales are also tall t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they are exaggerated and sometimes fun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F:\school\folktales\AmTallTales.jpg"/>
          <p:cNvPicPr/>
          <p:nvPr/>
        </p:nvPicPr>
        <p:blipFill>
          <a:blip r:embed="rId1"/>
          <a:stretch/>
        </p:blipFill>
        <p:spPr>
          <a:xfrm>
            <a:off x="4465800" y="457200"/>
            <a:ext cx="4297320" cy="5867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folktales can you rememb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02:53:14Z</dcterms:created>
  <dc:creator>areyes</dc:creator>
  <dc:description/>
  <dc:language>en-US</dc:language>
  <cp:lastModifiedBy>Lynne M. Gorman</cp:lastModifiedBy>
  <dcterms:modified xsi:type="dcterms:W3CDTF">2011-01-07T17:15:41Z</dcterms:modified>
  <cp:revision>2</cp:revision>
  <dc:subject/>
  <dc:title>Folktales</dc:title>
</cp:coreProperties>
</file>